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4B3-9BFD-4BEC-9E33-8E87A685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073-E961-47B7-AAEC-FE183441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BC0-CD6F-4ACD-B2AF-38E837CD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AD1-8912-4794-9169-13CE95EE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6B6-867E-4506-B76A-5B63C2CF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D2A-2119-442B-9E51-D3BCD5DC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1E9-E803-48D2-AE1D-52316061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5AE-7D3D-44C7-8BBB-BE072F87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2E7-638B-499A-AC17-FF8A9C3A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A8F-7DE0-4DA7-9D5F-7A205243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922-B890-4C0D-A6D9-F3DFC6E0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C31-F812-4F01-9EDB-7591B5DC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2F08-D03D-4BDA-9E86-FB34730543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package" Target="../embeddings/oleObject1.docx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orld War 2</a:t>
            </a:r>
            <a:br>
              <a:rPr sz="4400"/>
            </a:b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Data Chart Projec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7242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Italy: Axi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0" y="16765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: Benito Mussol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: Fas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ded: Albania, Greece, Ethio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ded by: Germany 194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erated’ by: Allied Troops 19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57500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480440" y="228600"/>
            <a:ext cx="1269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533520" y="4800600"/>
          <a:ext cx="2361960" cy="1665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800600"/>
                    <a:ext cx="23619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Japan:  Axi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 = Prime Minister Toj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mperor Hirohito was a ineffective Figurehe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ded or Controlled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, Manchuria, Thailand, Malays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led Allied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German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they Inva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ia : 193_  Liberated: 194_ by USSR led Al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34:39Z</dcterms:created>
  <dc:creator>Tamera Detrick-Posthumus</dc:creator>
  <dc:description/>
  <dc:language>en-US</dc:language>
  <cp:lastModifiedBy>Tamera Detrick-Posthumus</cp:lastModifiedBy>
  <dcterms:modified xsi:type="dcterms:W3CDTF">2009-02-16T17:35:58Z</dcterms:modified>
  <cp:revision>6</cp:revision>
  <dc:subject/>
  <dc:title>World War 2 Data Chart Project</dc:title>
</cp:coreProperties>
</file>